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gif" ContentType="image/gi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5223-7B0C-4C76-826E-1F6166D3BC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, PRED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F84C-745A-4AB5-9EE2-9E122CFB30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2B2B-B623-4CE5-89D7-DA338972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E23-C889-4B29-92D6-6F8B9A7AF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467AA7-4CF7-41FD-A6DE-BAD9121D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6A470-4BEB-4C27-AE7A-0687948E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16604D-FAA5-4B78-835D-A4A47099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ED677-AA46-485C-9438-69FE3D8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BF568-9A9E-4D6B-9FD7-890DB3E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DCB16-4939-4A8C-8A4B-882D98C3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0D583-D5EB-4F85-BB04-9171903D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F32F8-46D0-4804-A981-5121BEA1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023949-9FD9-4CF7-A257-41D45E71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23115-D10D-4568-A7C7-254BF1E0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38C-E25E-4493-B7B1-3566AAB9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61567-078C-4B6A-AE66-71BB270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63053-B694-41B8-BB82-18A6B5C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FA20F-E9F6-4FB0-9EB0-A37AFB9F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0EF0F0-0539-4F4A-AAFE-9BEE4924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EED08-DB9F-42F6-A4FA-676DF0B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F5BA9F-2CEA-4463-B033-0D71081C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6D2D75-334F-4FAD-A9FE-4DE8A37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6884C-C6B7-4ADF-AB29-2D2230D3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4360E-C4E7-42D9-94D4-59FD5DB9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1CC835-5F40-4647-B474-0C3E98DD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B0B-D748-4C2C-AAFD-CECABFEB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C9481-603C-4DD2-A250-B226F4A7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4772B-06DD-4818-9801-164E6EE5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7EBB8-C0EA-460A-A149-5A1AF92A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1CA78-108D-4963-B556-E265008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5125A-5618-4E0F-984C-883A06B2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712FC-1AF1-44CA-9E4A-2F9CD05E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26470-FE4E-43FA-A7EB-DF4DC184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D1C45-6200-4184-A8E2-1560852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81416-5883-4CE5-92EA-9285B458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298C8-B1BC-443E-B1EF-CDD2AD7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14F9C-9D9B-4E97-B545-25DA1391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EDAD-4141-4ECA-8998-30B14BB6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7A9FB-3C78-4F4C-B7E3-4BF6DCC6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8D376-6625-4AEF-A2D2-E636BE85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8F15C-E2DB-4AB0-AB66-95EE208B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519B24-8DCD-4083-8A95-830B1533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8FF581-B49B-4582-AB69-749FCD48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04A22-438D-4343-816A-FF1468B9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A19FB-9B54-4192-A5F5-AE1833EF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BFEA1-AA9A-4A69-BB47-CAA5DDD7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92FD19-087B-47F0-970C-C731F53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DFFA-AD87-4DD5-888B-358D8FD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96540-EFC1-4E00-8345-C55794AB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23E2B-C933-4FC7-8402-40E4661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0866D-10AC-47DC-9694-E994F38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A0C36C-F4DE-45EC-A6D6-779F24FD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890A9-D664-47D8-BA23-24019D34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CFD0-2629-4726-8E49-8EEDC4DF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393A-659D-43BE-B255-DA3803D7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39F7-1427-4D75-B41F-D577A784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9DD4-79DE-4D59-84D7-DA7937B0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7BC8-230A-4166-B383-2E35A489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B6D-4D2A-4B89-8C85-89315F40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D73-4DA8-4E8D-9726-B1F90A3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6735-6527-4F3A-B208-7AA6501D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EE09-2349-4E6E-A067-EC82B639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4D62-6E3E-4CF6-AF1A-CDF4A0F8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5B87-6FF7-41E3-ACD6-AB0A5B4E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75DA9-6823-4B78-8D79-C2179829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9B8A3-5D47-47F7-A956-0752B702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446B-9208-419E-9534-0A52E695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8C992-ED02-40F0-83DA-8F36BB52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44C28-1FDE-42D4-AA80-1F160D0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28A-45B0-41C3-A6C2-7D8A4BFA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63ECD-F2BD-448F-8526-6F822FC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32A9-8A72-4899-88BF-AFC10AF2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027D-E956-4829-AE62-BC438E44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A721-5DC3-40E2-B212-BA6DC9BD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C01D-BE58-4DC6-BB88-A34F30F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62CF-6DD7-4C70-AEA9-6CC074F3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CA36-9277-4447-8A0B-A31DFA38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F63AA-1DD8-42D0-B433-E1086AA70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B99B7-200E-4032-8785-548EAB91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80AE0-474E-4075-A019-F28887E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74C-1D7C-4E2E-A10C-8F4308A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1F986-101F-4BBC-B8B9-21616A9A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664D7-1BCB-4053-BE17-CB29F9C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6A438-93FE-4A25-A387-5601C99D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C639-3BD6-4F1C-9D2D-34F90206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6C306-F050-4603-807A-7E1F461A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F588-EC74-4E76-BB12-7F5B4222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F9885-3951-49F4-A26C-F0317F83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57A4-C0A8-4C46-83D6-A1E7AFA6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8967-B2EA-4DD9-B3A1-314E45E0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D15A-726D-4831-B045-F20C0B85A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CDE-0FF6-4460-BE40-F56D3085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75ECB-B6EB-4700-9B8B-ACA93B49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107C6-47A5-4B4A-81D1-E9631EBB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CCE8D-58F4-47AF-8B6E-8BCDD15C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8C27-CB2E-4DDB-BD14-6FCE41E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A14FC-2B67-4FA4-BDBD-894C45F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D0A41-37F8-4626-84F0-99F9E2CC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03FE6-FE40-42BD-916F-CA116BB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CC0E3-38E5-41EC-909B-A67920F8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18748-83D1-4683-9A43-51E0D6DF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12452-0ECF-43A0-AD6F-E07A2FB7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0F0-F75C-4ED9-B91D-897D803D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0B052-7FB4-4124-A346-3C4EE9AF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421E-96AF-4B84-988A-AB677C66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B414-EA04-499F-8009-04705132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B1B03-63D2-4989-941F-09CF974B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F0E11-2A01-4F0F-B59E-7C1F215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39E5-7440-4DE3-A6A4-41186BA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16888-8C8D-4060-839F-45588B73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F2695-458B-457A-A7F3-1B54635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615A4-E81A-4792-9958-65E7FAFD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2AB8-F11C-4DA2-A297-4FE25E09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9C42-C69B-419E-AAF2-A898B801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C82BB-9B25-44D3-B5B2-5D6D6D3E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DA102-C42C-48C9-A566-1DC3B086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3565-6BD5-488A-A674-FEAF56EC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BD1B6-CA73-47C2-8811-D563A1143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6740A-6127-4EA2-A0B9-ADA4171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7A84F-9358-444A-94A4-CC91FE2B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91440-C2DF-4FB6-B746-6B48F9996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C8C3B-B620-4DC0-B470-893F1520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1E30-324A-4E6C-94CA-D6C3B651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F7FDB-1AD4-40EF-8BE6-1BE4AC68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B15-7E36-4D6E-B117-35995DA2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848D2-2449-47FC-AE26-11B4CE8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1ACE0-751E-4A64-8D3A-AB08AC10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574D8-7018-435D-90F4-9F033D98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93DA7-6E50-40C7-A77B-BD0F8F44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CB2B9-EB96-4A1C-BF7C-769160F1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30B2E-5CC2-4107-A269-21BCFFAF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2AE8-349E-4E25-9F57-2D4E0B08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5AE01-29BE-441F-869B-96973746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7C0A5-773E-4CE3-8597-ACC5C649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E0CC3-E8BB-47EB-A57F-449BE974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90BC-38FB-4F3B-8858-C74F15F0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DA517-8318-43BF-A4C3-D7807073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24D4B-1314-4EFB-8421-86C05A59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578D1-F330-4B54-BB68-2952711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C28AD-07D8-4087-AB4C-20ECC5B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ABFC8-D694-4603-85C6-AB7F65C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2FE05-73BB-4AC2-AFEC-8983AF56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6BCE7-02BB-4B4E-B906-D1FCDA33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3B25B2-9437-45B9-AE30-D8E97AB3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4CD49-F0C3-4C00-8647-3923594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DB3BD3-F636-4E5F-9B0F-EBEFBEE6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B652-575B-4203-99F5-064B101A0E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822C-37BA-45DA-A9F1-B7CCEBAAF5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21D8-B02F-49D8-98E2-89397EBC40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AB50-3A58-470E-932B-A7CEE820A2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55A0-59EE-4BC4-89F8-0AE44C49D4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1F75-9289-4880-A540-CB7405C924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A61B-8560-4511-B148-67938FE7DE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EB4A-F617-4997-8FDD-29A57BDF9F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363A-E63F-4AE3-A4CA-D2D1EAB7B4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B0D7-9955-414D-8E2A-4DD3D9CA24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9734-7892-4DEA-828D-31C4740B7D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A122-4C97-4939-B527-B50E7ED52D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RPA&#354;II%20ORIENTALI.pptx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46b86"/>
                </a:solidFill>
                <a:latin typeface="Georgia"/>
              </a:rPr>
              <a:t>JOC PENTRU EVALUAREA ELEVIL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CARPAŢII ORIENTAL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Action Button: Forward or Next 3">
            <a:hlinkClick r:id="" action="ppaction://hlinkshowjump?jump=nextslide"/>
          </p:cNvPr>
          <p:cNvSpPr/>
          <p:nvPr/>
        </p:nvSpPr>
        <p:spPr>
          <a:xfrm>
            <a:off x="6429240" y="5572080"/>
            <a:ext cx="1714680" cy="428760"/>
          </a:xfrm>
          <a:custGeom>
            <a:avLst/>
            <a:gdLst>
              <a:gd name="textAreaLeft" fmla="*/ 27720 w 1714680"/>
              <a:gd name="textAreaRight" fmla="*/ 1686960 w 1714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86328" h="21600">
                <a:moveTo>
                  <a:pt x="0" y="0"/>
                </a:moveTo>
                <a:lnTo>
                  <a:pt x="86328" y="0"/>
                </a:lnTo>
                <a:lnTo>
                  <a:pt x="86328" y="21600"/>
                </a:lnTo>
                <a:lnTo>
                  <a:pt x="0" y="21600"/>
                </a:lnTo>
                <a:close/>
              </a:path>
              <a:path fill="lightenLess" w="86328" h="21600">
                <a:moveTo>
                  <a:pt x="0" y="0"/>
                </a:moveTo>
                <a:lnTo>
                  <a:pt x="86328" y="0"/>
                </a:lnTo>
                <a:lnTo>
                  <a:pt x="84928" y="1400"/>
                </a:lnTo>
                <a:lnTo>
                  <a:pt x="1400" y="1400"/>
                </a:lnTo>
                <a:close/>
              </a:path>
              <a:path fill="darken" w="86328" h="21600">
                <a:moveTo>
                  <a:pt x="86328" y="0"/>
                </a:moveTo>
                <a:lnTo>
                  <a:pt x="86328" y="21600"/>
                </a:lnTo>
                <a:lnTo>
                  <a:pt x="84928" y="20200"/>
                </a:lnTo>
                <a:lnTo>
                  <a:pt x="84928" y="1400"/>
                </a:lnTo>
                <a:close/>
              </a:path>
              <a:path fill="darkenLess" w="86328" h="21600">
                <a:moveTo>
                  <a:pt x="8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8" y="20200"/>
                </a:lnTo>
                <a:close/>
              </a:path>
              <a:path fill="lighten" w="8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28" h="21600">
                <a:moveTo>
                  <a:pt x="36157" y="3794"/>
                </a:moveTo>
                <a:lnTo>
                  <a:pt x="50170" y="10800"/>
                </a:lnTo>
                <a:lnTo>
                  <a:pt x="3615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TextBox 4"/>
          <p:cNvSpPr/>
          <p:nvPr/>
        </p:nvSpPr>
        <p:spPr>
          <a:xfrm>
            <a:off x="6357960" y="4786200"/>
            <a:ext cx="200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TextBox 5"/>
          <p:cNvSpPr/>
          <p:nvPr/>
        </p:nvSpPr>
        <p:spPr>
          <a:xfrm>
            <a:off x="357120" y="5072040"/>
            <a:ext cx="485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52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4. VÂRFUL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PIETROSU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, DIN MUNŢII RODNEI ARE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33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30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303 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Action Button: Custom 3">
            <a:hlinkClick r:id="rId1" action="ppaction://hlinksldjump"/>
          </p:cNvPr>
          <p:cNvSpPr/>
          <p:nvPr/>
        </p:nvSpPr>
        <p:spPr>
          <a:xfrm>
            <a:off x="642960" y="26431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Action Button: Custom 4">
            <a:hlinkClick r:id="rId2" action="ppaction://hlinksldjump"/>
          </p:cNvPr>
          <p:cNvSpPr/>
          <p:nvPr/>
        </p:nvSpPr>
        <p:spPr>
          <a:xfrm>
            <a:off x="642960" y="3571920"/>
            <a:ext cx="357120" cy="35712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Action Button: Custom 5">
            <a:hlinkClick r:id="rId3" action="ppaction://hlinksldjump"/>
          </p:cNvPr>
          <p:cNvSpPr/>
          <p:nvPr/>
        </p:nvSpPr>
        <p:spPr>
          <a:xfrm>
            <a:off x="642960" y="4643280"/>
            <a:ext cx="357120" cy="357480"/>
          </a:xfrm>
          <a:custGeom>
            <a:avLst/>
            <a:gdLst>
              <a:gd name="textAreaLeft" fmla="*/ 23040 w 357120"/>
              <a:gd name="textAreaRight" fmla="*/ 334080 w 3571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8" name="Picture 6" descr="DSCF0026.JPG"/>
          <p:cNvPicPr/>
          <p:nvPr/>
        </p:nvPicPr>
        <p:blipFill>
          <a:blip r:embed="rId4"/>
          <a:srcRect l="5321" t="11346" r="8513" b="14894"/>
          <a:stretch/>
        </p:blipFill>
        <p:spPr>
          <a:xfrm>
            <a:off x="2786040" y="2071800"/>
            <a:ext cx="5786640" cy="3714480"/>
          </a:xfrm>
          <a:prstGeom prst="rect">
            <a:avLst/>
          </a:prstGeom>
          <a:ln w="0">
            <a:noFill/>
          </a:ln>
        </p:spPr>
      </p:pic>
      <p:sp>
        <p:nvSpPr>
          <p:cNvPr id="659" name="Right Arrow 7"/>
          <p:cNvSpPr/>
          <p:nvPr/>
        </p:nvSpPr>
        <p:spPr>
          <a:xfrm>
            <a:off x="4714920" y="2428920"/>
            <a:ext cx="71424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62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65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5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MUNŢII CĂLIMANI, BISTRIŢEI, GURGHIULUI ŞI HARGHITEI SE AFLĂ ÎN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 SU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NOR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CENTRAL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8" name="Picture 3" descr="DSCF0026.JPG"/>
          <p:cNvPicPr/>
          <p:nvPr/>
        </p:nvPicPr>
        <p:blipFill>
          <a:blip r:embed="rId1"/>
          <a:srcRect l="4687" t="10410" r="6249" b="13541"/>
          <a:stretch/>
        </p:blipFill>
        <p:spPr>
          <a:xfrm>
            <a:off x="4500720" y="2143080"/>
            <a:ext cx="4329000" cy="3000600"/>
          </a:xfrm>
          <a:prstGeom prst="rect">
            <a:avLst/>
          </a:prstGeom>
          <a:ln w="0">
            <a:noFill/>
          </a:ln>
        </p:spPr>
      </p:pic>
      <p:sp>
        <p:nvSpPr>
          <p:cNvPr id="669" name="Action Button: Custom 4">
            <a:hlinkClick r:id="rId2" action="ppaction://hlinksldjump"/>
          </p:cNvPr>
          <p:cNvSpPr/>
          <p:nvPr/>
        </p:nvSpPr>
        <p:spPr>
          <a:xfrm>
            <a:off x="571680" y="207180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Action Button: Custom 5">
            <a:hlinkClick r:id="rId3" action="ppaction://hlinksldjump"/>
          </p:cNvPr>
          <p:cNvSpPr/>
          <p:nvPr/>
        </p:nvSpPr>
        <p:spPr>
          <a:xfrm>
            <a:off x="571680" y="307188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Action Button: Custom 6">
            <a:hlinkClick r:id="rId4" action="ppaction://hlinksldjump"/>
          </p:cNvPr>
          <p:cNvSpPr/>
          <p:nvPr/>
        </p:nvSpPr>
        <p:spPr>
          <a:xfrm>
            <a:off x="571680" y="407196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74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77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6. DIN MUNŢI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HĂŞMASU MARE 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IZVORĂSC RÂURILE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MUREŞUL ŞI OLTU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SIRETUL ŞI PRUTU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RGEŞUL ŞI IALOMIŢ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Action Button: Custom 3">
            <a:hlinkClick r:id="rId1" action="ppaction://hlinksldjump"/>
          </p:cNvPr>
          <p:cNvSpPr/>
          <p:nvPr/>
        </p:nvSpPr>
        <p:spPr>
          <a:xfrm>
            <a:off x="571680" y="207180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Action Button: Custom 4"/>
          <p:cNvSpPr/>
          <p:nvPr/>
        </p:nvSpPr>
        <p:spPr>
          <a:xfrm>
            <a:off x="571680" y="300024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Action Button: Custom 5"/>
          <p:cNvSpPr/>
          <p:nvPr/>
        </p:nvSpPr>
        <p:spPr>
          <a:xfrm>
            <a:off x="571680" y="407196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83" name="Picture 7" descr="AG00037_.GIF"/>
          <p:cNvPicPr/>
          <p:nvPr/>
        </p:nvPicPr>
        <p:blipFill>
          <a:blip r:embed="rId2"/>
          <a:stretch/>
        </p:blipFill>
        <p:spPr>
          <a:xfrm>
            <a:off x="6429240" y="2143080"/>
            <a:ext cx="1792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86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89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1.UNDE SE ÎNTIND CARPAŢII ORIENT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HOTARUL DE NORD AL ŢĂTII NOASTRE, PÂNĂ LA VALEA PRAHOVE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VALEA PRAHOVEI, PÂNĂ LA VĂILE RÂURILOR TIMIŞ, CERNA ŞI BIST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DUNĂRE,PÂNĂ LA VĂILE RÂURILOR BARCĂU ŞI SOME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Action Button: Custom 3">
            <a:hlinkClick r:id="" action="ppaction://hlinkshowjump?jump=nextslide"/>
          </p:cNvPr>
          <p:cNvSpPr/>
          <p:nvPr/>
        </p:nvSpPr>
        <p:spPr>
          <a:xfrm>
            <a:off x="500040" y="15001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Action Button: Custom 4">
            <a:hlinkClick r:id="rId1" action="ppaction://hlinksldjump"/>
          </p:cNvPr>
          <p:cNvSpPr/>
          <p:nvPr/>
        </p:nvSpPr>
        <p:spPr>
          <a:xfrm>
            <a:off x="500040" y="285768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Action Button: Custom 5">
            <a:hlinkClick r:id="rId2" action="ppaction://hlinksldjump"/>
          </p:cNvPr>
          <p:cNvSpPr/>
          <p:nvPr/>
        </p:nvSpPr>
        <p:spPr>
          <a:xfrm>
            <a:off x="500040" y="428616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7.DIN GRUPA SUDICĂ FAC PARTE MUNŢII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UTÂIULUI, RODNEI, MARAMUREŞULU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URGHIULUI, BISTRIŢEI, CĂLIMAN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VRANCEI, BUZĂULUI, CIUCA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2" name="Picture 3" descr="TR00482_.WMF"/>
          <p:cNvPicPr/>
          <p:nvPr/>
        </p:nvPicPr>
        <p:blipFill>
          <a:blip r:embed="rId1"/>
          <a:stretch/>
        </p:blipFill>
        <p:spPr>
          <a:xfrm>
            <a:off x="6643800" y="4429080"/>
            <a:ext cx="2092320" cy="1714680"/>
          </a:xfrm>
          <a:prstGeom prst="rect">
            <a:avLst/>
          </a:prstGeom>
          <a:ln w="0">
            <a:noFill/>
          </a:ln>
        </p:spPr>
      </p:pic>
      <p:sp>
        <p:nvSpPr>
          <p:cNvPr id="693" name="Action Button: Custom 4"/>
          <p:cNvSpPr/>
          <p:nvPr/>
        </p:nvSpPr>
        <p:spPr>
          <a:xfrm>
            <a:off x="642960" y="207180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Action Button: Custom 5"/>
          <p:cNvSpPr/>
          <p:nvPr/>
        </p:nvSpPr>
        <p:spPr>
          <a:xfrm>
            <a:off x="642960" y="3000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Action Button: Custom 6"/>
          <p:cNvSpPr/>
          <p:nvPr/>
        </p:nvSpPr>
        <p:spPr>
          <a:xfrm>
            <a:off x="642960" y="4000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98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01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8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 SUNT  TRECĂTORI (PASURI) ÎN CARPAŢII ORIENTALI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OZIA, BĂNIŢA, DOMAŞNE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RAN, LAINICI, TURNU ROŞ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RISLOP, BICAZ, OITUZ, PREDEA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Action Button: Custom 3"/>
          <p:cNvSpPr/>
          <p:nvPr/>
        </p:nvSpPr>
        <p:spPr>
          <a:xfrm>
            <a:off x="571680" y="257184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5" name="Action Button: Custom 4"/>
          <p:cNvSpPr/>
          <p:nvPr/>
        </p:nvSpPr>
        <p:spPr>
          <a:xfrm>
            <a:off x="571680" y="35002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Action Button: Custom 5"/>
          <p:cNvSpPr/>
          <p:nvPr/>
        </p:nvSpPr>
        <p:spPr>
          <a:xfrm>
            <a:off x="571680" y="4500720"/>
            <a:ext cx="428400" cy="428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09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12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9.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BOGĂŢII ALE CARPAŢILOR ORIENTALI 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UR, MARMURĂ, PLATINĂ 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ĂRBUNI, METALE, APE MINER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ODGORII, VII, LIVEZ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Action Button: Custom 6"/>
          <p:cNvSpPr/>
          <p:nvPr/>
        </p:nvSpPr>
        <p:spPr>
          <a:xfrm>
            <a:off x="500040" y="257184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Action Button: Custom 7"/>
          <p:cNvSpPr/>
          <p:nvPr/>
        </p:nvSpPr>
        <p:spPr>
          <a:xfrm>
            <a:off x="500040" y="342900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Action Button: Custom 8"/>
          <p:cNvSpPr/>
          <p:nvPr/>
        </p:nvSpPr>
        <p:spPr>
          <a:xfrm>
            <a:off x="500040" y="4500720"/>
            <a:ext cx="500040" cy="5000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20" name="Action Button: Forward or Next 5"/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23" name="Action Button: Back or Previous 6"/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5" descr="PH01046J.JPG"/>
          <p:cNvPicPr/>
          <p:nvPr/>
        </p:nvPicPr>
        <p:blipFill>
          <a:blip r:embed="rId1"/>
          <a:stretch/>
        </p:blipFill>
        <p:spPr>
          <a:xfrm>
            <a:off x="2538360" y="428760"/>
            <a:ext cx="3890880" cy="5740200"/>
          </a:xfrm>
          <a:prstGeom prst="rect">
            <a:avLst/>
          </a:prstGeom>
          <a:ln w="0">
            <a:noFill/>
          </a:ln>
        </p:spPr>
      </p:pic>
      <p:pic>
        <p:nvPicPr>
          <p:cNvPr id="725" name="Rectangle 3" descr=""/>
          <p:cNvPicPr/>
          <p:nvPr/>
        </p:nvPicPr>
        <p:blipFill>
          <a:blip r:embed="rId2"/>
          <a:stretch/>
        </p:blipFill>
        <p:spPr>
          <a:xfrm>
            <a:off x="225360" y="4406760"/>
            <a:ext cx="8504280" cy="1444680"/>
          </a:xfrm>
          <a:prstGeom prst="rect">
            <a:avLst/>
          </a:prstGeom>
          <a:ln w="0">
            <a:noFill/>
          </a:ln>
        </p:spPr>
      </p:pic>
      <p:sp>
        <p:nvSpPr>
          <p:cNvPr id="726" name="TextBox 4"/>
          <p:cNvSpPr/>
          <p:nvPr/>
        </p:nvSpPr>
        <p:spPr>
          <a:xfrm>
            <a:off x="1285920" y="9288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eorgia"/>
              </a:rPr>
              <a:t>CLICK AICI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Oval 7"/>
          <p:cNvSpPr/>
          <p:nvPr/>
        </p:nvSpPr>
        <p:spPr>
          <a:xfrm>
            <a:off x="4357800" y="1500120"/>
            <a:ext cx="357120" cy="357120"/>
          </a:xfrm>
          <a:prstGeom prst="ellips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Right Arrow 8"/>
          <p:cNvSpPr/>
          <p:nvPr/>
        </p:nvSpPr>
        <p:spPr>
          <a:xfrm>
            <a:off x="3143160" y="1428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25" name="Action Button: Forward or Next 6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28" name="Action Button: Back or Previous 6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2. ÎN CÂTE GRUPE SUNT ÎMPĂRŢIŢI CARPAŢII ORIENT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3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4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Action Button: Custom 3">
            <a:hlinkClick r:id="rId1" action="ppaction://hlinksldjump"/>
          </p:cNvPr>
          <p:cNvSpPr/>
          <p:nvPr/>
        </p:nvSpPr>
        <p:spPr>
          <a:xfrm>
            <a:off x="500040" y="2571840"/>
            <a:ext cx="500040" cy="42840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5209" h="21600">
                <a:moveTo>
                  <a:pt x="0" y="0"/>
                </a:moveTo>
                <a:lnTo>
                  <a:pt x="25209" y="0"/>
                </a:lnTo>
                <a:lnTo>
                  <a:pt x="25209" y="21600"/>
                </a:lnTo>
                <a:lnTo>
                  <a:pt x="0" y="21600"/>
                </a:lnTo>
                <a:close/>
              </a:path>
              <a:path fill="lightenLess" w="25209" h="21600">
                <a:moveTo>
                  <a:pt x="0" y="0"/>
                </a:moveTo>
                <a:lnTo>
                  <a:pt x="25209" y="0"/>
                </a:lnTo>
                <a:lnTo>
                  <a:pt x="23809" y="1400"/>
                </a:lnTo>
                <a:lnTo>
                  <a:pt x="1400" y="1400"/>
                </a:lnTo>
                <a:close/>
              </a:path>
              <a:path fill="darken" w="25209" h="21600">
                <a:moveTo>
                  <a:pt x="25209" y="0"/>
                </a:moveTo>
                <a:lnTo>
                  <a:pt x="25209" y="21600"/>
                </a:lnTo>
                <a:lnTo>
                  <a:pt x="23809" y="20200"/>
                </a:lnTo>
                <a:lnTo>
                  <a:pt x="23809" y="1400"/>
                </a:lnTo>
                <a:close/>
              </a:path>
              <a:path fill="darkenLess" w="25209" h="21600">
                <a:moveTo>
                  <a:pt x="25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9" y="20200"/>
                </a:lnTo>
                <a:close/>
              </a:path>
              <a:path fill="lighten" w="25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Action Button: Custom 4">
            <a:hlinkClick r:id="rId2" action="ppaction://hlinksldjump"/>
          </p:cNvPr>
          <p:cNvSpPr/>
          <p:nvPr/>
        </p:nvSpPr>
        <p:spPr>
          <a:xfrm>
            <a:off x="500040" y="357192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Action Button: Custom 5">
            <a:hlinkClick r:id="rId3" action="ppaction://hlinksldjump"/>
          </p:cNvPr>
          <p:cNvSpPr/>
          <p:nvPr/>
        </p:nvSpPr>
        <p:spPr>
          <a:xfrm>
            <a:off x="500040" y="4572000"/>
            <a:ext cx="500040" cy="428760"/>
          </a:xfrm>
          <a:custGeom>
            <a:avLst/>
            <a:gdLst>
              <a:gd name="textAreaLeft" fmla="*/ 27720 w 500040"/>
              <a:gd name="textAreaRight" fmla="*/ 472320 w 5000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5188" h="21600">
                <a:moveTo>
                  <a:pt x="0" y="0"/>
                </a:moveTo>
                <a:lnTo>
                  <a:pt x="25188" y="0"/>
                </a:lnTo>
                <a:lnTo>
                  <a:pt x="25188" y="21600"/>
                </a:lnTo>
                <a:lnTo>
                  <a:pt x="0" y="21600"/>
                </a:lnTo>
                <a:close/>
              </a:path>
              <a:path fill="lightenLess" w="25188" h="21600">
                <a:moveTo>
                  <a:pt x="0" y="0"/>
                </a:moveTo>
                <a:lnTo>
                  <a:pt x="25188" y="0"/>
                </a:lnTo>
                <a:lnTo>
                  <a:pt x="23788" y="1400"/>
                </a:lnTo>
                <a:lnTo>
                  <a:pt x="1400" y="1400"/>
                </a:lnTo>
                <a:close/>
              </a:path>
              <a:path fill="darken" w="25188" h="21600">
                <a:moveTo>
                  <a:pt x="25188" y="0"/>
                </a:moveTo>
                <a:lnTo>
                  <a:pt x="25188" y="21600"/>
                </a:lnTo>
                <a:lnTo>
                  <a:pt x="23788" y="20200"/>
                </a:lnTo>
                <a:lnTo>
                  <a:pt x="23788" y="1400"/>
                </a:lnTo>
                <a:close/>
              </a:path>
              <a:path fill="darkenLess" w="25188" h="21600">
                <a:moveTo>
                  <a:pt x="25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8" y="20200"/>
                </a:lnTo>
                <a:close/>
              </a:path>
              <a:path fill="lighten" w="25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6" descr="DSCF4753.JPG"/>
          <p:cNvPicPr/>
          <p:nvPr/>
        </p:nvPicPr>
        <p:blipFill>
          <a:blip r:embed="rId4"/>
          <a:stretch/>
        </p:blipFill>
        <p:spPr>
          <a:xfrm>
            <a:off x="3571920" y="2000160"/>
            <a:ext cx="466704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37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40" name="Action Button: Back or Previous 6">
            <a:hlinkClick r:id="rId3" action="ppaction://hlinksldjump"/>
          </p:cNvPr>
          <p:cNvSpPr/>
          <p:nvPr/>
        </p:nvSpPr>
        <p:spPr>
          <a:xfrm>
            <a:off x="6786720" y="5429160"/>
            <a:ext cx="1571400" cy="428760"/>
          </a:xfrm>
          <a:custGeom>
            <a:avLst/>
            <a:gdLst>
              <a:gd name="textAreaLeft" fmla="*/ 27720 w 1571400"/>
              <a:gd name="textAreaRight" fmla="*/ 1543680 w 1571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79115" h="21600">
                <a:moveTo>
                  <a:pt x="0" y="0"/>
                </a:moveTo>
                <a:lnTo>
                  <a:pt x="79115" y="0"/>
                </a:lnTo>
                <a:lnTo>
                  <a:pt x="79115" y="21600"/>
                </a:lnTo>
                <a:lnTo>
                  <a:pt x="0" y="21600"/>
                </a:lnTo>
                <a:close/>
              </a:path>
              <a:path fill="lightenLess" w="79115" h="21600">
                <a:moveTo>
                  <a:pt x="0" y="0"/>
                </a:moveTo>
                <a:lnTo>
                  <a:pt x="79115" y="0"/>
                </a:lnTo>
                <a:lnTo>
                  <a:pt x="77715" y="1400"/>
                </a:lnTo>
                <a:lnTo>
                  <a:pt x="1400" y="1400"/>
                </a:lnTo>
                <a:close/>
              </a:path>
              <a:path fill="darken" w="79115" h="21600">
                <a:moveTo>
                  <a:pt x="79115" y="0"/>
                </a:moveTo>
                <a:lnTo>
                  <a:pt x="79115" y="21600"/>
                </a:lnTo>
                <a:lnTo>
                  <a:pt x="77715" y="20200"/>
                </a:lnTo>
                <a:lnTo>
                  <a:pt x="77715" y="1400"/>
                </a:lnTo>
                <a:close/>
              </a:path>
              <a:path fill="darkenLess" w="79115" h="21600">
                <a:moveTo>
                  <a:pt x="79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15" y="20200"/>
                </a:lnTo>
                <a:close/>
              </a:path>
              <a:path fill="lighten" w="79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9115" h="21600">
                <a:moveTo>
                  <a:pt x="32551" y="10800"/>
                </a:moveTo>
                <a:lnTo>
                  <a:pt x="46564" y="3794"/>
                </a:lnTo>
                <a:lnTo>
                  <a:pt x="4656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3. MUNŢII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GUTÂIULUI, MARAMUREŞULUI ŞI RODNEI </a:t>
            </a: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FAC PARTE DIN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SU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NORDIC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GRUPA CENTRAL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Action Button: Custom 3">
            <a:hlinkClick r:id="rId1" action="ppaction://hlinksldjump"/>
          </p:cNvPr>
          <p:cNvSpPr/>
          <p:nvPr/>
        </p:nvSpPr>
        <p:spPr>
          <a:xfrm>
            <a:off x="571680" y="2143080"/>
            <a:ext cx="428400" cy="42876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Action Button: Custom 4">
            <a:hlinkClick r:id="rId2" action="ppaction://hlinksldjump"/>
          </p:cNvPr>
          <p:cNvSpPr/>
          <p:nvPr/>
        </p:nvSpPr>
        <p:spPr>
          <a:xfrm>
            <a:off x="642960" y="3000240"/>
            <a:ext cx="428760" cy="42876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Action Button: Custom 5">
            <a:hlinkClick r:id="rId3" action="ppaction://hlinksldjump"/>
          </p:cNvPr>
          <p:cNvSpPr/>
          <p:nvPr/>
        </p:nvSpPr>
        <p:spPr>
          <a:xfrm>
            <a:off x="642960" y="4000680"/>
            <a:ext cx="428760" cy="428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6" name="Picture 6" descr="DSCF4840.JPG"/>
          <p:cNvPicPr/>
          <p:nvPr/>
        </p:nvPicPr>
        <p:blipFill>
          <a:blip r:embed="rId4"/>
          <a:stretch/>
        </p:blipFill>
        <p:spPr>
          <a:xfrm>
            <a:off x="4714920" y="2714760"/>
            <a:ext cx="37069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49" name="Action Button: Forward or Next 5">
            <a:hlinkClick r:id="rId3" action="ppaction://hlinksldjump"/>
          </p:cNvPr>
          <p:cNvSpPr/>
          <p:nvPr/>
        </p:nvSpPr>
        <p:spPr>
          <a:xfrm>
            <a:off x="6072120" y="5357880"/>
            <a:ext cx="1857600" cy="428400"/>
          </a:xfrm>
          <a:custGeom>
            <a:avLst/>
            <a:gdLst>
              <a:gd name="textAreaLeft" fmla="*/ 27720 w 1857600"/>
              <a:gd name="textAreaRight" fmla="*/ 1829880 w 18576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93600" h="21600">
                <a:moveTo>
                  <a:pt x="0" y="0"/>
                </a:moveTo>
                <a:lnTo>
                  <a:pt x="93600" y="0"/>
                </a:lnTo>
                <a:lnTo>
                  <a:pt x="93600" y="21600"/>
                </a:lnTo>
                <a:lnTo>
                  <a:pt x="0" y="21600"/>
                </a:lnTo>
                <a:close/>
              </a:path>
              <a:path fill="lightenLess" w="93600" h="21600">
                <a:moveTo>
                  <a:pt x="0" y="0"/>
                </a:moveTo>
                <a:lnTo>
                  <a:pt x="93600" y="0"/>
                </a:lnTo>
                <a:lnTo>
                  <a:pt x="92200" y="1400"/>
                </a:lnTo>
                <a:lnTo>
                  <a:pt x="1400" y="1400"/>
                </a:lnTo>
                <a:close/>
              </a:path>
              <a:path fill="darken" w="93600" h="21600">
                <a:moveTo>
                  <a:pt x="93600" y="0"/>
                </a:moveTo>
                <a:lnTo>
                  <a:pt x="93600" y="21600"/>
                </a:lnTo>
                <a:lnTo>
                  <a:pt x="92200" y="20200"/>
                </a:lnTo>
                <a:lnTo>
                  <a:pt x="92200" y="1400"/>
                </a:lnTo>
                <a:close/>
              </a:path>
              <a:path fill="darkenLess" w="93600" h="21600">
                <a:moveTo>
                  <a:pt x="93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200" y="20200"/>
                </a:lnTo>
                <a:close/>
              </a:path>
              <a:path fill="lighten" w="93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3600" h="21600">
                <a:moveTo>
                  <a:pt x="39794" y="3794"/>
                </a:moveTo>
                <a:lnTo>
                  <a:pt x="53806" y="10800"/>
                </a:lnTo>
                <a:lnTo>
                  <a:pt x="39794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4:19:36Z</dcterms:created>
  <dc:creator>ANGELICA</dc:creator>
  <dc:description/>
  <dc:language>en-US</dc:language>
  <cp:lastModifiedBy>IULIA</cp:lastModifiedBy>
  <dcterms:modified xsi:type="dcterms:W3CDTF">2010-01-30T14:46:11Z</dcterms:modified>
  <cp:revision>25</cp:revision>
  <dc:subject/>
  <dc:title>CARPAŢII ORIENTALI</dc:title>
</cp:coreProperties>
</file>